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0C5-AE46-4E30-8C04-18234CAF0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E530-110C-468C-A62A-C2E6FFBCB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541C-6C5B-4FD3-BC6E-5C0FC0740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CB24-33DB-4378-8014-DA957499C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194-555B-45FD-A3F0-7EF853B17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150F-27E8-4AC8-AC53-54E7136F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A2C4-9406-42FF-AAD2-5419D4E32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924A-7376-4B05-BC76-A7EB13B6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D465-9E20-4B0E-840D-643B7E2F5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CBD-0A55-496E-8E77-65EDB7BFF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285-975B-4C31-A197-6B8EEC4C9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6442-8D84-4F14-9867-C21ED7875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819-57C5-4B43-B93F-AC5128C0D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6C4-7941-4AFB-A649-C0FB3FD8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A21-B6AD-422C-9BE7-29BDC8CE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F8C-A253-43F1-B6AA-C7264055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44A-62D6-41FD-AE7B-2D050606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1C7-5C72-4B05-ADA8-D1DB474D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DF5-1D28-45FD-9E97-DC779884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F25-8169-4976-BB34-638DC8EB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A39E-DBE6-493A-B6ED-A0FDE49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43D-9617-42EF-9F7D-01AD2CE0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3DE-BA73-4B16-A2E4-7252B91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E59-EC9D-483C-A3B2-EECB5EB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2A8-3CEF-4061-AFF5-17201DAF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6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1" marL="668160" indent="-287280">
              <a:spcBef>
                <a:spcPts val="1250"/>
              </a:spcBef>
              <a:buClr>
                <a:srgbClr val="0065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2" marL="1049400" indent="-190440">
              <a:spcBef>
                <a:spcPts val="1250"/>
              </a:spcBef>
              <a:buClr>
                <a:srgbClr val="006501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3" marL="1430280" indent="-190440">
              <a:spcBef>
                <a:spcPts val="1250"/>
              </a:spcBef>
              <a:buClr>
                <a:srgbClr val="0065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4" marL="1811160" indent="-190440">
              <a:spcBef>
                <a:spcPts val="1250"/>
              </a:spcBef>
              <a:buClr>
                <a:srgbClr val="00650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5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6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955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6B8-E31E-4370-87E1-0D9B70B489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197480" cy="1066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5251320"/>
            <a:ext cx="7197480" cy="5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50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&lt;date/time&gt;</a:t>
            </a: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Thursday 16th Sept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76520"/>
            <a:ext cx="719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ecti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9718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ite Protection Officer</a:t>
            </a:r>
            <a:br>
              <a:rPr sz="3600"/>
            </a:b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221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election Eve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AFETY BRIEF FOR AERIAL TOWER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440" y="2293920"/>
            <a:ext cx="59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rounds and landings of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800" y="2997360"/>
            <a:ext cx="725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, do not lean over handrails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46530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800" y="3949560"/>
            <a:ext cx="70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limb the ladder at a comfortable pace, no ru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800" y="56214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2040" y="17928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000" y="1447920"/>
            <a:ext cx="57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120" y="2104920"/>
            <a:ext cx="65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quired to carry a person of similar physical st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00" y="2590920"/>
            <a:ext cx="71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Not a timed event. Do not run. Walk in a safe manner. Maintain your balance. Be mindful of colleague at all ti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763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00" y="3733920"/>
            <a:ext cx="695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200" y="5105520"/>
            <a:ext cx="716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2400" y="1384200"/>
            <a:ext cx="87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B.A TRAINING POD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280" y="2943360"/>
            <a:ext cx="59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wearer of B.A requires assistance, cal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 SCU (UK) AP member of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00" y="3781440"/>
            <a:ext cx="544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hanges of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changes of level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eps into B.A p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Open manholes (feel for open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0" y="2133720"/>
            <a:ext cx="82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.A procedure Tech Bulletin 1/97 will be adhered to as a ‘safe system of wor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45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00" y="518148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PLANT A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320" y="2276640"/>
            <a:ext cx="439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steps and la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" y="2943360"/>
            <a:ext cx="528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4367160"/>
            <a:ext cx="64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a safety officer / Instructor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520" y="3664080"/>
            <a:ext cx="49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o not run up or down stairs, brisk 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334120"/>
            <a:ext cx="67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1800" y="1447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LARIFICATION OF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4800" y="400536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7016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ealth and fit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s everyone fit and well (positive response required by all participants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Arial Black"/>
              </a:rPr>
              <a:t>Staff Int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708280"/>
            <a:ext cx="899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645000"/>
            <a:ext cx="8388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HR Advisor         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 Black"/>
              </a:rPr>
              <a:t>SPO Selection Event Programm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28280"/>
            <a:ext cx="838224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15     Site Induction – Visitors Induction Centre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30     Briefing re. programme for the da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    Physical test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Health &amp; Safety risk assessment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refreshment break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45     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30     Physical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550     View AP Promotional video &amp; VMDS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D Rom (*optional)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00     Debrief day’s events / what next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15     Close.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– 0915      Change in to fire kit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15 – 1030      Hose running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030 – 1100      Ladder Extension 10.5m  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00 – 1145      Ascend &amp; descend aerial tower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00 – 1300      * BA training pod crawl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00 –1445         Casualty Car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45 – 1545      * Ascend &amp; descend Process Plant in BA (Heat &amp; Humidity)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* Breaks built in to programme / times </a:t>
            </a:r>
            <a:r>
              <a:rPr b="0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may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va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916280"/>
          <a:ext cx="7643520" cy="2939760"/>
        </p:xfrm>
        <a:graphic>
          <a:graphicData uri="http://schemas.openxmlformats.org/drawingml/2006/table">
            <a:tbl>
              <a:tblPr/>
              <a:tblGrid>
                <a:gridCol w="3951000"/>
                <a:gridCol w="3692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600" y="2133720"/>
            <a:ext cx="86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Manual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comfortable pace with Kinetic handling  carried out at all time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. Use the large muscle groups whilst lifting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680" y="3247920"/>
            <a:ext cx="85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s, trips and 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reasonable pace, quick walk (observe surround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46800" y="4390920"/>
            <a:ext cx="50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uts, Abra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 to be worn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62360" y="5200560"/>
            <a:ext cx="58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No Jewellery To Be Worn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ings / Neck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W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iercing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133720"/>
            <a:ext cx="8076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ersonal Protective Equipment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ull fire kit (in operational condition) to be worn at all tim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Hel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tu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legg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boots/safety footwear (good 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worn for all practical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can be issued if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66600" y="5421240"/>
            <a:ext cx="56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port all injuries to SCU (UK) AP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6160" y="1531800"/>
            <a:ext cx="70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HOSE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6160" y="2440080"/>
            <a:ext cx="60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19716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hose whilst running out Undertake hose running with due care for others, a time limit is set, however carry out task with safety in m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583160"/>
            <a:ext cx="772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5944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2040" y="0"/>
            <a:ext cx="55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76080" y="153180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LADDE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0" y="2247840"/>
            <a:ext cx="670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to be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9888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ladder extensio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680" y="4695840"/>
            <a:ext cx="672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82300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2040" y="10620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2960" y="3908520"/>
            <a:ext cx="65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m grip of extension line required, using upper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0:33:46Z</dcterms:created>
  <dc:creator>Simon Houliston</dc:creator>
  <dc:description/>
  <dc:language>en-US</dc:language>
  <cp:lastModifiedBy>gpidgeon</cp:lastModifiedBy>
  <cp:lastPrinted>2004-11-25T16:42:46Z</cp:lastPrinted>
  <dcterms:modified xsi:type="dcterms:W3CDTF">2007-06-14T15:29:16Z</dcterms:modified>
  <cp:revision>81</cp:revision>
  <dc:subject/>
  <dc:title>PowerPoint Presentation</dc:title>
</cp:coreProperties>
</file>